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7836-273B-4943-840B-DF12F010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AA3E-9FD0-47FA-BD4C-239275C8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02B0-E457-4D84-9916-B2DA9F35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3F84-5E4E-4026-AFA2-0A68ADDC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E7C2-0BDD-463C-A125-A57672DA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7E68-6DB1-4BBA-B9BC-658D0815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112F-F08A-4B55-A0C8-3DEF5897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2180-3196-4E9D-9EC2-BA159CBE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3C4F-0F19-48BD-B361-B6F879F0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64B2-4922-440C-839E-A580E379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54D0-8132-4707-B14E-A412A1C2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88AF-F3F6-40DA-92EB-0D880815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870E-5C40-4B73-9049-2F7CCE938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duplace.com/kids/hme/k_5/graphorg/index.html" TargetMode="External"/><Relationship Id="rId2" Type="http://schemas.openxmlformats.org/officeDocument/2006/relationships/hyperlink" Target="http://www.readwritethink.org/materials/storymap/" TargetMode="External"/><Relationship Id="rId3" Type="http://schemas.openxmlformats.org/officeDocument/2006/relationships/hyperlink" Target="http://classroom.jc-schools.net/read/Souvenirs.htm" TargetMode="External"/><Relationship Id="rId4" Type="http://schemas.openxmlformats.org/officeDocument/2006/relationships/hyperlink" Target="http://home.att.net/~teaching/langarts.htm" TargetMode="External"/><Relationship Id="rId5" Type="http://schemas.openxmlformats.org/officeDocument/2006/relationships/hyperlink" Target="http://home.att.net/~teaching/langarts.htm" TargetMode="External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Tommy Gallet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Justin Hend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Erin Mor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Leigh Da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14400" y="1219320"/>
            <a:ext cx="7010280" cy="20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99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Nonlinguistic Representations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Time-Sequence 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Organize events in a specific chronological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4495680"/>
            <a:ext cx="7467480" cy="1371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772400" y="1219320"/>
            <a:ext cx="457200" cy="35049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629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4800600"/>
            <a:ext cx="8915400" cy="2057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77320" y="1371600"/>
            <a:ext cx="1066680" cy="3809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7394600">
            <a:off x="1189440" y="239112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Ev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7394600">
            <a:off x="2332440" y="239112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Ev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7394600">
            <a:off x="3323160" y="239112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Ev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7394600">
            <a:off x="4389840" y="239112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Ev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7394600">
            <a:off x="5456880" y="239148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Ev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Process/Cause-Effect 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Organize information into a casual network leading to a specific outcome or into a sequence of steps leading to a specific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324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629400" y="3048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Episode 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Organize information about specific events including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- a setting (time and pl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- specific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- specific d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- specific sequence of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- particular cause and effect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76720" y="3124080"/>
            <a:ext cx="1752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omic Sans MS"/>
              </a:rPr>
              <a:t>EPISO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27672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A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320040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EFF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55627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56386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56386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2193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83808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DU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228600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Generalization/Principal 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Organize information into general statements with supporting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400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0" y="99072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2971800"/>
            <a:ext cx="259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4114800"/>
            <a:ext cx="27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    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5105520"/>
            <a:ext cx="266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cept 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most general of all patter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Organize information around a word or phrase that represents entire classes or categories of persons, places things, and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324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352680" y="304812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ONCEP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8862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CHARACTER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41911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CHARACTER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17524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CHARACTER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46483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5410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60958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62920" y="914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49528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57150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91520" y="49528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search on Lear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18% are auditory lear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32% are visual lear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25% are tactile lear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25% are kinesthetic lear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ich means that greater than 50% of learners are nonlingui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ake Phys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oncrete representation of the knowledge that is being lear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uvenirs/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3D models – dio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le folder re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Draw Pictures and Pictograph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ymbolic pictures that represent the knowledge that has been lear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lip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llustrate vocabu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Engage in Kinesthetic Activ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hysical movement associated with knowledge generates a mental image of the knowledge in the 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nger 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ole playing/char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lkonin bo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Hand/body mov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90720" y="2057400"/>
            <a:ext cx="7162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6600" spc="-1" strike="noStrike">
                <a:solidFill>
                  <a:srgbClr val="0000ff"/>
                </a:solidFill>
                <a:latin typeface="Comic Sans MS"/>
              </a:rPr>
              <a:t>QUESTIONS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ers Galore!!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http://www.eduplace.com/kids/hme/k_5/graphorg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ve organizer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readwritethink.org/materials/storyma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venirs          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http://classroom.jc-schools.net/read/Souvenirs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zing stuff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5"/>
              </a:rPr>
              <a:t>home.att.net/~teaching/langarts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man"/>
                <a:ea typeface="Times New Roman"/>
              </a:rPr>
              <a:t>Heidorn, P.Bryan, “Image Retrieval as Linguistic and Nonlinguistic Visual Model Matching”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Bookman"/>
                <a:ea typeface="Times New Roman"/>
              </a:rPr>
              <a:t>Library Trends</a:t>
            </a:r>
            <a:r>
              <a:rPr b="0" lang="en-US" sz="2400" spc="-1" strike="noStrike">
                <a:solidFill>
                  <a:srgbClr val="0000ff"/>
                </a:solidFill>
                <a:latin typeface="Bookman"/>
                <a:ea typeface="Times New Roman"/>
              </a:rPr>
              <a:t>, Vol. 48 n2, pages 303-325, Fall 9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man"/>
                <a:ea typeface="Times New Roman"/>
              </a:rPr>
              <a:t>Leonard, Laurence B. “Language Impairment in Children”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Bookman"/>
                <a:ea typeface="Times New Roman"/>
              </a:rPr>
              <a:t>Merrill-Palmer Quarterly</a:t>
            </a:r>
            <a:r>
              <a:rPr b="0" lang="en-US" sz="2400" spc="-1" strike="noStrike">
                <a:solidFill>
                  <a:srgbClr val="0000ff"/>
                </a:solidFill>
                <a:latin typeface="Bookman"/>
                <a:ea typeface="Times New Roman"/>
              </a:rPr>
              <a:t>, Vol. 25 n3, page 205-232, July 197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man"/>
                <a:ea typeface="Times New Roman"/>
              </a:rPr>
              <a:t>Marzano, R. J., Pickering, D. J., &amp; Pollock, J. E. (2001).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Bookman"/>
                <a:ea typeface="Times New Roman"/>
              </a:rPr>
              <a:t>Classroom instruction that works: Research-based strategies for increasing student achievement</a:t>
            </a:r>
            <a:r>
              <a:rPr b="0" lang="en-US" sz="2400" spc="-1" strike="noStrike">
                <a:solidFill>
                  <a:srgbClr val="0000ff"/>
                </a:solidFill>
                <a:latin typeface="Bookman"/>
                <a:ea typeface="Times New Roman"/>
              </a:rPr>
              <a:t>.  Alexandria, VA: Association for Supervision and Curriculum Develop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1" lang="en-US" sz="6500" spc="-1" strike="noStrike">
                <a:solidFill>
                  <a:srgbClr val="0000ff"/>
                </a:solidFill>
                <a:latin typeface="Comic Sans MS"/>
              </a:rPr>
              <a:t>Actions speak louder than words”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Brain Enrichment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halle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Novel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eedbac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oher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86200" y="2211480"/>
            <a:ext cx="457200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QUESTIONS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is nonlinguistic represent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are the six patterns of nonlinguistic represent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How do we teach nonlinguistic representation to ou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at is nonlinguistic represent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t is an imagery mode of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imagery mode is expressed as mental pictures and physical sensations such as smell, taste, touch, kinesthetic association, and s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way to raise percentiles by 27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How to Use Nonlinguistic Re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raphic organiz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ake Phys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enerate Mental Pi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raw Pictures and Pictograp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ngage in Kinesthetic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atterns of nonlinguistic re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tive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ime-Sequence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cess/Cause-Effect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pisode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eneralization/Principle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ncept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Descriptive 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y can be used to represent facts about  specific persons, places, things, and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information does not need to be in any particular ord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324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19320" y="175248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4290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TOP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1295280"/>
            <a:ext cx="121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FA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449568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FA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15238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FA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5791320"/>
            <a:ext cx="14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FA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495288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FA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01:41:15Z</dcterms:created>
  <dc:creator>Salisbury University Informat</dc:creator>
  <dc:description/>
  <dc:language>en-US</dc:language>
  <cp:lastModifiedBy>na</cp:lastModifiedBy>
  <dcterms:modified xsi:type="dcterms:W3CDTF">2006-06-22T01:25:45Z</dcterms:modified>
  <cp:revision>19</cp:revision>
  <dc:subject/>
  <dc:title>NONLINGUISTIC REPRESENTATIONS</dc:title>
</cp:coreProperties>
</file>